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4A96-8E4F-4605-A4F7-0D800766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6ACB-4159-4862-90F7-124A40A7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4D83-9EC4-484B-826B-D2FCC93F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02C2-66C3-4667-91C4-D578F05C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71BF-3716-4A39-A44D-4C81F34E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64FF-AA83-4908-A7DC-96E07801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3140-4983-4CEB-9FDA-7E6C9076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7AEE-260D-4D79-BFAC-ABD2B2A2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55CD-D0FA-4108-8812-CBC7A6AD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B2EF-5FC4-424B-8C9E-92368207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8F87-6D2C-4C10-AC66-2B8F3971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F42C-75F9-4B25-AD74-F3F5194B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50760"/>
              <a:ext cx="9906120" cy="67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629400"/>
              <a:ext cx="990612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company 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906120" cy="22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579800" y="659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3727-D48F-4CA7-B40E-9B43EC1E3FF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608960" y="-25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0" y="658764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3549600" cy="6858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37000" y="4186080"/>
            <a:ext cx="423864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0960" y="1717560"/>
            <a:ext cx="842004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85720" y="358092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こにサブタイトルを入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42680" y="1734840"/>
            <a:ext cx="84200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ここにタイトルを入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4240" y="4186080"/>
            <a:ext cx="1371600" cy="0"/>
          </a:xfrm>
          <a:prstGeom prst="line">
            <a:avLst/>
          </a:prstGeom>
          <a:ln w="381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90680" y="1589040"/>
            <a:ext cx="8899560" cy="4905360"/>
            <a:chOff x="490680" y="1589040"/>
            <a:chExt cx="8899560" cy="4905360"/>
          </a:xfrm>
        </p:grpSpPr>
        <p:sp>
          <p:nvSpPr>
            <p:cNvPr id="53" name=""/>
            <p:cNvSpPr/>
            <p:nvPr/>
          </p:nvSpPr>
          <p:spPr>
            <a:xfrm>
              <a:off x="490680" y="1589040"/>
              <a:ext cx="577800" cy="490536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280" y="1589040"/>
              <a:ext cx="888696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4266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ここにタイトルを入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288000" rIns="288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ダミーテキスト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ダミーテキスト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ダミーテキスト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ダミーテキスト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B4AE-5295-48F3-9591-5316168723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.Y</dc:creator>
  <dc:description/>
  <dc:language>en-US</dc:language>
  <cp:lastModifiedBy>m.y</cp:lastModifiedBy>
  <dcterms:modified xsi:type="dcterms:W3CDTF">2007-03-20T09:45:43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